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2D0-76CB-4899-B0DA-CBC84ACA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FB4-6231-4248-9465-F0B9A8BB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34A-9FDF-44CC-9191-A07AC0E9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F65-C818-478F-88B3-0C32567B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77F-D98A-4F7E-86DD-4E9BF697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0103-3A0B-4B9A-B77E-3A8948A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3F2-0B79-49D8-AF04-F331CFD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BB99-5B4F-45BF-8091-F6FC2A0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9A4F-B760-4B0E-B7DB-A79AAC7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50F-A605-4E9B-ACB7-3FE3454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88CA-6951-49F1-9819-E7632E1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831-467C-4A04-B6B9-CE65219A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C31A-0F86-4E30-B3AA-9AF3500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DAA7-1E0A-4859-A261-F8F7425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C7C-1048-408B-B787-17775EA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F36-C867-4499-ADB5-A847FF8A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3514-E346-433C-B81D-6508B2DB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5C3-7C32-489A-B351-9608F06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581-E343-46FB-BBD1-9D4034B4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7AF-2C92-48C4-AC9E-B1745A59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8F9-32E9-4B00-896B-ADC2F53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87A-A273-4A76-A3F2-F09EA45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EF6-CF24-4817-9CD4-DF4D049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ABA-3D0F-4537-B235-485BF47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36E-8C4C-4A20-A69F-ACB625FCE1B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F19-228A-4CEB-A498-E4DD97C363B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Times New Roman"/>
              </a:rPr>
              <a:t>أسباب أدت إلى أهمية الإدارة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نصر من عناصر الإنتا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كبر حجم المنظمات وتعقد عملياتها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تخصص وتقسيم ال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ستخدام موارد اقتصادية تتسم بالند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عمل في ظروف بيئية سريعة التغي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تعاظم دور الدول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ملية مستمر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شا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متخص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وفن ومهن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جام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طبيعة الإدارة وخصائصه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حديد الخطوات الأساسية التي يتكون منها العمل ، ثم اختيار أفضل طريقة لأداء هذا العمل في أقصر وقت ممكن . وذلك باستخدام الطريقة العلم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ختيار العاملين وتدريبهم على استخدام الطريقة العلمية لانجاز الأعمال ، وتنمية التعاون بينهم ، وزيادة الحوافز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قسيم العمل بين الإدارة والعمال بحيث يقوم كل منهم بالواجبات الخاصة به ، وبذلك تزيد الكفاية الانتاج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اعتراف بأن وظيفة الإدارة هي التخطيط للعمل ، وذلك بدلاً من أن يترك للعمال حرية اختيار الطريقة التي ينجزون بها الأعمال ، مما يؤدي إلى تضارب الطرق وعدم التنسيق ، أن على الإدارة التنسيق بين الجهود الجماع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20:25:57Z</dcterms:created>
  <dc:creator>Main</dc:creator>
  <dc:description/>
  <dc:language>en-US</dc:language>
  <cp:lastModifiedBy>Main</cp:lastModifiedBy>
  <dcterms:modified xsi:type="dcterms:W3CDTF">2004-01-01T20:47:07Z</dcterms:modified>
  <cp:revision>9</cp:revision>
  <dc:subject/>
  <dc:title>أسباب أدت إلى أهمية الإدارة</dc:title>
</cp:coreProperties>
</file>